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4E4-BBF8-4E84-9409-76F60130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646-D354-42C2-8839-5E2AC5F2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2FB-77C9-4F82-BB9F-F5C27751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52B-43B9-467B-88AA-F6A42CF8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44243-E0ED-4368-B209-6904B4D5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37059-24F2-4A9D-A88F-0A7D0FF1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FB3AA-EC8A-4494-ABF4-A1D5FA8E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C21A0-9787-447E-AADF-0EA2BA6A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D55C9-38F8-4B2D-9A89-7164B208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90AF3-869D-4994-98B0-5910DEEB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EDB38-7B33-4D97-8B98-98ECAA31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B77-1898-44ED-8323-9DFA5DCD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DF746-825A-4049-94E0-FE720298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31B10-780E-4FE9-BF21-BBFEE2F3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AA21C-E6B7-4F3C-81E6-B4089C8B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A3010-E300-4436-A1F4-AF9F725B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9DAEE-948E-42F5-844E-96544877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E1F-9578-4E11-B5EB-AFCC85C2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115-4049-4EA5-A9EF-0FC302CA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44B-FAF5-4ECC-9B5D-F1DF0742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78FC-C180-48AA-A527-A3D1CF96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A30-5DB2-4733-908F-1EE3E501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5DE-0D35-4E9B-A846-D27A9AAB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E5B-E983-4028-A8ED-71DA4A91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3F35-55FB-46F6-9374-8149C3D6E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2B7E-B5CB-49BA-85CF-110ED9762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Использование ИКТ в ДОУ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КДОУ Ункурдинский сад «Светлячок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полнила воспитатель Батуева Г.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Развитие связной речи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составлении описательных рассказов используются опорные картинки. Последовательно меняющиеся иллюстрации или схемы служат наглядным планом для пересказа или заучивания стихотворений. Очень удобно использовать электронный вариант, как сюжетных картинок, так и репродукций картин известных художников для составления рассказ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сскажи фрагмент сказки (пример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скажи фрагмент сказ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2619360"/>
            <a:ext cx="61437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Грамотное использование возможностей ИКТ в ДОУ соответствует триединой дидактической цели занят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осприятие обучающимися учебного материала, осмысление связей и отношений между объектами изуч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СНОВНЫЕ ТРЕБОВАНИЯ К СОСТАВЛЕНИЮ ЗАНЯТИЯ с использованием ИКТ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нятия c ИКТ должны выполнять определенные образовательные функц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щательно продумать цель, место и способ использования ИК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бота и ИКТ должна быть дозирова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мнить заповедь «Не навреди!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сновные требования при применении ИК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Использование компьютора на занятиях с детьми не более одного раза в день, три раза в неделю в дни большей работоспособности: вторник, среда, четвер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осле завершения занятия с применением ИКТ проводится гимнастика для глаз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продолжительность- для детей 5 лет- 10 минут; 6-7 лет не более 15 мину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экран должен находится не ближе чем 50 с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ецифика применения ИКТ в образовательном процессе в ДО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Занятия в детском саду имеют свою специфику, они должны быть эмоциональными, яркими, с привлечением большого иллюстрированного материала, с использованием звуковых и видеозапис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актическое применение ИКТ в ДО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Подбор иллюстрированного материала к занятия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Создание презентац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Оформление букле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Оформление стендов, групп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Подбор материала к праздникам, мероприятия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ИКТ на досугах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собая роль должна  отводится при проведении массовых мероприятий, развлечений, утренников. С помощью средств ИКТ возможно передать наглядно, например, мощь Российской Армии, услышать звуки вьюги, звон колокольчиков и многое друго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ИКТ для родителей воспитаннико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 родительском собрании можно показывать родителям фото и видео материалы различных видов деятельности в детском саду, знакомить их с жизнью детей своих дет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Сеансы релаксации» в тихий ча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репкий сон- основа здорового образа жизни. Для такого сна необходимо снять эмоциональное и мышечное напряжение. С этой целью можно использовать звуки живой природы, классическую музыки, сочетание звуков природы и музы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спользование мультимедийных презентаций на занятиях по развитию реч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еспечивает активность детей при рассматривании, обследовании и зрительном выделении ими признаков и свойств предметов, формируются способы зрительного восприятия, обследования, выделения в предметном мире качественных, количественных и пространственно-временных признаков и свойств, развиваются зрительное внимание и зрительная памя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инципы использования ИКТ в образовательном процесс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Принцип актив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Принцип науч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. Принцип доступ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. Принцип системности и последователь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. Принцип нагляд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правления использования мультимедийных презентаций в развитии речи обучающихся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вуковая культура реч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•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витие фонематического восприятия, овладение элементами грамо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•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ормирование лексико – грамматического строя реч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•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витие связной реч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8T06:55:31Z</dcterms:created>
  <dc:creator>Home</dc:creator>
  <dc:description/>
  <dc:language>en-US</dc:language>
  <cp:lastModifiedBy>Home</cp:lastModifiedBy>
  <dcterms:modified xsi:type="dcterms:W3CDTF">2018-02-18T07:54:22Z</dcterms:modified>
  <cp:revision>2</cp:revision>
  <dc:subject/>
  <dc:title>Использование ИКТ в ДОУ</dc:title>
</cp:coreProperties>
</file>